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1. Proportion of patients who survived up to 1 year after randomization to placebo, 24-hour infusion of abciximab, and 48-hour abciximab. There was no significant difference between the 3 groups (P=0.3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2. Subgroup analysis of 1-year mortality, hazard ratio, and 95% CI: placebo vs 24-hour abciximab, ; placebo vs 48-hour abciximab, 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3. Proportion of patients (pts; n=4041) with positive local troponin who survived up to 1 year after randomization to either placebo, 24-hour infusion of abciximab, or 48-hour abcixim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4. Proportion of patients (pts; n=2842) with negative local troponin who survived up to 1 year after randomization to either placebo, 24-hour infusion of abciximab, or 48-hour abcixim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5. Proportion of patients with either elevated or normal CRP randomized to placebo, 24-hour abciximab, or 48-hour abcixim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ng-Term Results After the Glycoprotein IIb/IIIa Inhibitor Abciximab in Unstable An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J.P. Ottervanger, P. Armstrong, E.S. Barnathan, E. Boersma, J.S. Cooper, E.M. Ohman, S. James, E. Topol, L. Wallentin, and M.L. Simo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07(3):437-4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8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1. Proportion of patients who survived up to 1 year after randomization to placebo, 24-hour infusion of abciximab, and 48-hour abcixima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30440" y="1079640"/>
            <a:ext cx="50227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304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P. Ottervanger et al. Circulation. 2003;107:437-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2. Subgroup analysis of 1-year mortality, hazard ratio, and 95% CI: placebo vs 24-hour abciximab, ; placebo vs 48-hour abciximab, 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0" y="1079640"/>
            <a:ext cx="36054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P. Ottervanger et al. Circulation. 2003;107:437-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3. Proportion of patients (pts; n=4041) with positive local troponin who survived up to 1 year after randomization to either placebo, 24-hour infusion of abciximab, or 48-hour abcixim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60760" y="1079640"/>
            <a:ext cx="47656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60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P. Ottervanger et al. Circulation. 2003;107:437-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4. Proportion of patients (pts; n=2842) with negative local troponin who survived up to 1 year after randomization to either placebo, 24-hour infusion of abciximab, or 48-hour abcixim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4000" y="1079640"/>
            <a:ext cx="47559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640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P. Ottervanger et al. Circulation. 2003;107:437-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5. Proportion of patients with either elevated or normal CRP randomized to placebo, 24-hour abciximab, or 48-hour abcixim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38320" y="1079640"/>
            <a:ext cx="420876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38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.P. Ottervanger et al. Circulation. 2003;107:437-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