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Vasopressor response to Ang II, determined by PD20 to Ang II, in groups treated with carvedilol (CARV; n=13) or metoprolol (MET; n=7). PD20 is pressor dose of Ang II to elicit change of 20 mm Hg (PD20) in systolic blood pressure taken as average of 15 beats at peak of this rise. PD20 to Ang II was significantly higher in carvedilol-treated group (carvedilol median PD20 Ang II of 20 [range 2.5 to 30] ng/kg vs metoprolol median PD20 Ang II of 5 [range 2.5 to 10] ng/kg, P=0.019 by χ2 analysi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Vasopressor response or PD20 of Ang II is shown in ng/kg on x-axis. Plasma levels of Ang II (in pg/mL) are shown on y-axis. There was no correlation (r=0.08; P=NS). Levels of circulating Ang II ranged from 2.3 to 19 pg/mL and were not correlated with pressor response to Ang II in carvedilol (n=13) and metoprolol (n=7) treatment groups. CARV indicates carvedilol; MET, metoprol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Vasopressor Response to Angiotensin II Infusion in Patients With Chronic Heart Failure Receiving β-Blocke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imothy J. Vittorio, Chim C. Lang, Stuart D. Katz, Milton Packer, Donna M. Mancini, and Ulrich P. Jord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07(2):290-29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21, 200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1. Vasopressor response to Ang II, determined by PD20 to Ang II, in groups treated with carvedilol (CARV; n=13) or metoprolol (MET; n=7).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447920"/>
            <a:ext cx="8604360" cy="46576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othy J. Vittorio et al. Circulation. 2003;107:290-293</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2. Vasopressor response or PD20 of Ang II is shown in ng/kg on x-axi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812960" y="1079640"/>
            <a:ext cx="6459480" cy="5394240"/>
          </a:xfrm>
          <a:prstGeom prst="rect">
            <a:avLst/>
          </a:prstGeom>
          <a:ln w="0">
            <a:noFill/>
          </a:ln>
        </p:spPr>
      </p:pic>
      <p:sp>
        <p:nvSpPr>
          <p:cNvPr id="54" name=""/>
          <p:cNvSpPr/>
          <p:nvPr/>
        </p:nvSpPr>
        <p:spPr>
          <a:xfrm>
            <a:off x="1812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othy J. Vittorio et al. Circulation. 2003;107:290-293</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