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igure 1. Forearm blood flow during intra-arterial infusions of acetylcholine (A), sodium nitroprusside (B), and L-NMMA (C) in 21 patients with sickle cell disease compared with 18 black control subjects. Data are mean±SEM.</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igure 2. Forearm blood flow, expressed as percentage change from baseline during intra-arterial infusion of acetylcholine (A and B) and sodium nitroprusside (C and D), in 21 patients with sickle cell disease (A and C) and 18 black control subjects (B and D). P values refer to comparison of blood flow responses at 3 doses of acetylcholine and sodium nitroprusside between the 2 curves. Data are mean±S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igure 3. A, Forearm blood flow expressed as percentage change from baseline during intra-arterial infusion of 4 mmol/min L-NMMA in 21 patients with sickle cell disease (SS genotype) compared with 18 black control subjects (AA). *P=0.01 by unpaired t test for male vs female patients with sickle cell disease. B, Absolute blood flow responses before and during L-NMMA infusion in all male and female patients with sickle cell diseas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igure 4. Forearm blood flow, expressed as percentage change from baseline during coinfusion of L-NMMA and acetylcholine (Ach) in men and women with sickle cell disease. L-NMMA infusion significantly reduced change in blood flow with acetylcholine alone in women (*P=0.02). Consistent with blood flow responses’ not being mediated by NO in men with sickle cell disease, L-NMMA infusion had no effect on male blood flow during acetylcholine infusion (P=N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igure 5. Relationship between basal endothelial NO bioavailability, reflected by decrease in forearm blood flow during infusion of NO synthase inhibitor L-NMMA, and sVCAM-1 levels in plasma (A). Women (□ had greater basal NO bioavailability (ie, significant blood flow decreases during NO synthase inhibition) and lower sVCAM-1 levels, whereas men (•) had reduced NO bioavailability (ie, limited blood flow decreases during NO synthase inhibition) and increased sVCAM-1 levels. Similar results were observed for infusions of sodium nitroprusside, with higher levels of sVCAM-1 observed in patients with lower blood flow responses to nitroprusside (B).</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igure 6. NO bioavailability in patients with sickle cell disease. NO likely plays a critical compensatory role in sickle cell disease by maintaining vasomotor tone, limiting platelet aggregation, inhibiting ischemia-reperfusion injury, and modulating endothelial adhesion molecule expression. Increased shear-stress, anemia, and erythropoietin production,49 as well as compensatory responses to chronic vascular injury, drive increases in endothelial NO production,9,10 which is facilitated by estrogens. NO is simultaneously scavenged by superoxide, which is produced by xanthine oxidase,11 and by cell free hemoglobin,41 which is liberated by steady-state hemolysis. Reduced NO production secondary to NO synthase inhibition or arginine deficiency may also contribute.6 Results of this study show that in women, compensatory increases in NO production and bioactivity are maintained and even augmented, whereas in men, this system fails. ROS indicates reactive oxygen species; EPO, erythropoietin; and NOS, NO synthas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Divergent Nitric Oxide Bioavailability in Men and Women With Sickle Cell Disease</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Mark T. Gladwin, Alan N. Schechter, Frederick P. Ognibene, Wynona A. Coles, Christopher D. Reiter, William H. Schenke, Gyorgy Csako, Myron A. Waclawiw, Julio A. Panza, and Richard O. Cannon</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Circulation</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107(2):271-278</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anuary 21, 2003</a:t>
            </a:r>
            <a:endParaRPr b="0" lang="en-US" sz="1800" spc="-1" strike="noStrike">
              <a:solidFill>
                <a:srgbClr val="000000"/>
              </a:solidFill>
              <a:latin typeface="Times New Roman"/>
            </a:endParaRPr>
          </a:p>
        </p:txBody>
      </p:sp>
      <p:sp>
        <p:nvSpPr>
          <p:cNvPr id="44"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488880" y="6861240"/>
            <a:ext cx="1389240" cy="561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igure 1. Forearm blood flow during intra-arterial infusions of acetylcholine (A), sodium nitroprusside (B), and L-NMMA (C) in 21 patients with sickle cell disease compared with 18 black control subjects.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488880" y="6861240"/>
            <a:ext cx="1389240" cy="561960"/>
          </a:xfrm>
          <a:prstGeom prst="rect">
            <a:avLst/>
          </a:prstGeom>
          <a:ln w="0">
            <a:noFill/>
          </a:ln>
        </p:spPr>
      </p:pic>
      <p:pic>
        <p:nvPicPr>
          <p:cNvPr id="48" name="" descr=""/>
          <p:cNvPicPr/>
          <p:nvPr/>
        </p:nvPicPr>
        <p:blipFill>
          <a:blip r:embed="rId2"/>
          <a:stretch/>
        </p:blipFill>
        <p:spPr>
          <a:xfrm>
            <a:off x="739800" y="1668600"/>
            <a:ext cx="8604360" cy="4214520"/>
          </a:xfrm>
          <a:prstGeom prst="rect">
            <a:avLst/>
          </a:prstGeom>
          <a:ln w="0">
            <a:noFill/>
          </a:ln>
        </p:spPr>
      </p:pic>
      <p:sp>
        <p:nvSpPr>
          <p:cNvPr id="4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rk T. Gladwin et al. Circulation. 2003;107:271-278</a:t>
            </a:r>
            <a:endParaRPr b="0" lang="en-US" sz="1200" spc="-1" strike="noStrike">
              <a:solidFill>
                <a:srgbClr val="000000"/>
              </a:solidFill>
              <a:latin typeface="Times New Roman"/>
            </a:endParaRPr>
          </a:p>
        </p:txBody>
      </p:sp>
      <p:sp>
        <p:nvSpPr>
          <p:cNvPr id="5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igure 2. Forearm blood flow, expressed as percentage change from baseline during intra-arterial infusion of acetylcholine (A and B) and sodium nitroprusside (C and D), in 21 patients with sickle cell disease (A and C) and 18 black control subjects (B and D).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488880" y="6861240"/>
            <a:ext cx="1389240" cy="561960"/>
          </a:xfrm>
          <a:prstGeom prst="rect">
            <a:avLst/>
          </a:prstGeom>
          <a:ln w="0">
            <a:noFill/>
          </a:ln>
        </p:spPr>
      </p:pic>
      <p:pic>
        <p:nvPicPr>
          <p:cNvPr id="53" name="" descr=""/>
          <p:cNvPicPr/>
          <p:nvPr/>
        </p:nvPicPr>
        <p:blipFill>
          <a:blip r:embed="rId2"/>
          <a:stretch/>
        </p:blipFill>
        <p:spPr>
          <a:xfrm>
            <a:off x="1633680" y="1079640"/>
            <a:ext cx="6816600" cy="5394240"/>
          </a:xfrm>
          <a:prstGeom prst="rect">
            <a:avLst/>
          </a:prstGeom>
          <a:ln w="0">
            <a:noFill/>
          </a:ln>
        </p:spPr>
      </p:pic>
      <p:sp>
        <p:nvSpPr>
          <p:cNvPr id="54" name=""/>
          <p:cNvSpPr/>
          <p:nvPr/>
        </p:nvSpPr>
        <p:spPr>
          <a:xfrm>
            <a:off x="163368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rk T. Gladwin et al. Circulation. 2003;107:271-278</a:t>
            </a:r>
            <a:endParaRPr b="0" lang="en-US" sz="1200" spc="-1" strike="noStrike">
              <a:solidFill>
                <a:srgbClr val="000000"/>
              </a:solidFill>
              <a:latin typeface="Times New Roman"/>
            </a:endParaRPr>
          </a:p>
        </p:txBody>
      </p:sp>
      <p:sp>
        <p:nvSpPr>
          <p:cNvPr id="55"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90324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igure 3. A, Forearm blood flow expressed as percentage change from baseline during intra-arterial infusion of 4 mmol/min L-NMMA in 21 patients with sickle cell disease (SS genotype) compared with 18 black control subjects (AA). *P=0.01 by unpaired t test for male vs female patients with sickle cell disease.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488880" y="6861240"/>
            <a:ext cx="1389240" cy="561960"/>
          </a:xfrm>
          <a:prstGeom prst="rect">
            <a:avLst/>
          </a:prstGeom>
          <a:ln w="0">
            <a:noFill/>
          </a:ln>
        </p:spPr>
      </p:pic>
      <p:pic>
        <p:nvPicPr>
          <p:cNvPr id="58" name="" descr=""/>
          <p:cNvPicPr/>
          <p:nvPr/>
        </p:nvPicPr>
        <p:blipFill>
          <a:blip r:embed="rId2"/>
          <a:stretch/>
        </p:blipFill>
        <p:spPr>
          <a:xfrm>
            <a:off x="3425760" y="1079640"/>
            <a:ext cx="3232080" cy="5394240"/>
          </a:xfrm>
          <a:prstGeom prst="rect">
            <a:avLst/>
          </a:prstGeom>
          <a:ln w="0">
            <a:noFill/>
          </a:ln>
        </p:spPr>
      </p:pic>
      <p:sp>
        <p:nvSpPr>
          <p:cNvPr id="59" name=""/>
          <p:cNvSpPr/>
          <p:nvPr/>
        </p:nvSpPr>
        <p:spPr>
          <a:xfrm>
            <a:off x="34257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rk T. Gladwin et al. Circulation. 2003;107:271-278</a:t>
            </a:r>
            <a:endParaRPr b="0" lang="en-US" sz="1200" spc="-1" strike="noStrike">
              <a:solidFill>
                <a:srgbClr val="000000"/>
              </a:solidFill>
              <a:latin typeface="Times New Roman"/>
            </a:endParaRPr>
          </a:p>
        </p:txBody>
      </p:sp>
      <p:sp>
        <p:nvSpPr>
          <p:cNvPr id="6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igure 4. Forearm blood flow, expressed as percentage change from baseline during coinfusion of L-NMMA and acetylcholine (Ach) in men and women with sickle cell disease.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488880" y="6861240"/>
            <a:ext cx="1389240" cy="561960"/>
          </a:xfrm>
          <a:prstGeom prst="rect">
            <a:avLst/>
          </a:prstGeom>
          <a:ln w="0">
            <a:noFill/>
          </a:ln>
        </p:spPr>
      </p:pic>
      <p:pic>
        <p:nvPicPr>
          <p:cNvPr id="63" name="" descr=""/>
          <p:cNvPicPr/>
          <p:nvPr/>
        </p:nvPicPr>
        <p:blipFill>
          <a:blip r:embed="rId2"/>
          <a:stretch/>
        </p:blipFill>
        <p:spPr>
          <a:xfrm>
            <a:off x="1573200" y="1079640"/>
            <a:ext cx="6940440" cy="5394240"/>
          </a:xfrm>
          <a:prstGeom prst="rect">
            <a:avLst/>
          </a:prstGeom>
          <a:ln w="0">
            <a:noFill/>
          </a:ln>
        </p:spPr>
      </p:pic>
      <p:sp>
        <p:nvSpPr>
          <p:cNvPr id="64" name=""/>
          <p:cNvSpPr/>
          <p:nvPr/>
        </p:nvSpPr>
        <p:spPr>
          <a:xfrm>
            <a:off x="15732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rk T. Gladwin et al. Circulation. 2003;107:271-278</a:t>
            </a:r>
            <a:endParaRPr b="0" lang="en-US" sz="1200" spc="-1" strike="noStrike">
              <a:solidFill>
                <a:srgbClr val="000000"/>
              </a:solidFill>
              <a:latin typeface="Times New Roman"/>
            </a:endParaRPr>
          </a:p>
        </p:txBody>
      </p:sp>
      <p:sp>
        <p:nvSpPr>
          <p:cNvPr id="65"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igure 5. Relationship between basal endothelial NO bioavailability, reflected by decrease in forearm blood flow during infusion of NO synthase inhibitor L-NMMA, and sVCAM-1 levels in plasma (A).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488880" y="6861240"/>
            <a:ext cx="1389240" cy="561960"/>
          </a:xfrm>
          <a:prstGeom prst="rect">
            <a:avLst/>
          </a:prstGeom>
          <a:ln w="0">
            <a:noFill/>
          </a:ln>
        </p:spPr>
      </p:pic>
      <p:pic>
        <p:nvPicPr>
          <p:cNvPr id="68" name="" descr=""/>
          <p:cNvPicPr/>
          <p:nvPr/>
        </p:nvPicPr>
        <p:blipFill>
          <a:blip r:embed="rId2"/>
          <a:stretch/>
        </p:blipFill>
        <p:spPr>
          <a:xfrm>
            <a:off x="2897280" y="1079640"/>
            <a:ext cx="4290840" cy="5394240"/>
          </a:xfrm>
          <a:prstGeom prst="rect">
            <a:avLst/>
          </a:prstGeom>
          <a:ln w="0">
            <a:noFill/>
          </a:ln>
        </p:spPr>
      </p:pic>
      <p:sp>
        <p:nvSpPr>
          <p:cNvPr id="69" name=""/>
          <p:cNvSpPr/>
          <p:nvPr/>
        </p:nvSpPr>
        <p:spPr>
          <a:xfrm>
            <a:off x="28972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rk T. Gladwin et al. Circulation. 2003;107:271-278</a:t>
            </a:r>
            <a:endParaRPr b="0" lang="en-US" sz="1200" spc="-1" strike="noStrike">
              <a:solidFill>
                <a:srgbClr val="000000"/>
              </a:solidFill>
              <a:latin typeface="Times New Roman"/>
            </a:endParaRPr>
          </a:p>
        </p:txBody>
      </p:sp>
      <p:sp>
        <p:nvSpPr>
          <p:cNvPr id="7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igure 6. NO bioavailability in patients with sickle cell disease.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488880" y="6861240"/>
            <a:ext cx="1389240" cy="561960"/>
          </a:xfrm>
          <a:prstGeom prst="rect">
            <a:avLst/>
          </a:prstGeom>
          <a:ln w="0">
            <a:noFill/>
          </a:ln>
        </p:spPr>
      </p:pic>
      <p:pic>
        <p:nvPicPr>
          <p:cNvPr id="73" name="" descr=""/>
          <p:cNvPicPr/>
          <p:nvPr/>
        </p:nvPicPr>
        <p:blipFill>
          <a:blip r:embed="rId2"/>
          <a:stretch/>
        </p:blipFill>
        <p:spPr>
          <a:xfrm>
            <a:off x="985680" y="1079640"/>
            <a:ext cx="8115480" cy="5394240"/>
          </a:xfrm>
          <a:prstGeom prst="rect">
            <a:avLst/>
          </a:prstGeom>
          <a:ln w="0">
            <a:noFill/>
          </a:ln>
        </p:spPr>
      </p:pic>
      <p:sp>
        <p:nvSpPr>
          <p:cNvPr id="74" name=""/>
          <p:cNvSpPr/>
          <p:nvPr/>
        </p:nvSpPr>
        <p:spPr>
          <a:xfrm>
            <a:off x="9856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rk T. Gladwin et al. Circulation. 2003;107:271-278</a:t>
            </a:r>
            <a:endParaRPr b="0" lang="en-US" sz="1200" spc="-1" strike="noStrike">
              <a:solidFill>
                <a:srgbClr val="000000"/>
              </a:solidFill>
              <a:latin typeface="Times New Roman"/>
            </a:endParaRPr>
          </a:p>
        </p:txBody>
      </p:sp>
      <p:sp>
        <p:nvSpPr>
          <p:cNvPr id="75"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